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solidFill>
            <a:srgbClr val="0066cc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50000">
                <a:srgbClr val="ff3300"/>
              </a:gs>
              <a:gs pos="100000">
                <a:srgbClr val="7617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f1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solidFill>
            <a:srgbClr val="0066cc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f1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ccffff"/>
                </a:solidFill>
                <a:latin typeface="Arial Cyr"/>
                <a:ea typeface="Arial Cyr"/>
              </a:rPr>
              <a:t>Жизнь в побед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246204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321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Семинар “Встреча с Богом” —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Восьмая с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44197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Copyright © 1999 TOUCH Outreach Minis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yr"/>
                <a:ea typeface="Arial Cyr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Cyr"/>
                <a:ea typeface="Arial Cyr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yr"/>
                <a:ea typeface="Arial Cyr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Что ВАМ нужно ненавиде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В каких сферах вы наиболее искушаемы и легко уводитесь в сторо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Что вам необходимо ненавидеть для того, чтобы избежать этих искушений и ловуш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8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2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Встаньте! Ответьте на эти вопросы и молитесь со своим партнером по слу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cffff"/>
                </a:solidFill>
                <a:latin typeface="Arial Cyr"/>
                <a:ea typeface="Arial Cyr"/>
              </a:rPr>
              <a:t>Во-вторых, покоритесь Господ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2133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Решили ли вы для себя, что желаете, чтобы Христос правил в каждой сфере вашей жизни (финансы, карьера, мысли и действия)? Если вы еще этого не сделали, то сделайте это сегодня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Молитесь: </a:t>
            </a:r>
            <a:r>
              <a:rPr b="1" i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Господь, я избираю подчиняться Тебе во всех сферах моей жизни и во всех решениях, которые я приним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6094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cffff"/>
                </a:solidFill>
                <a:latin typeface="Arial Cyr"/>
                <a:ea typeface="Arial Cyr"/>
              </a:rPr>
              <a:t>Наслаждайтесь Господом ежеднев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Найдите тихое место и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Выделите достаточн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Делайте то, что вам нравится (читайте Библию, молитесь, ведите дневник, поклоняйтес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Уделите также время для того, что бы просто слушать Госп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Если вам труд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Молитесь об э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Поймите, почему вы не выделяет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Какие для этого существуют прегра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Определите твердыни и принесите их перед Господом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Поговорите с теми, кто вам близок, чтобы они помогли вам выделить время для Госп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Что ВАМ необходимо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Что вам нужно сделать прямо сейчас, чтобы продвинуться вперед в ваших взаимоотношениях со Хрис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Какие вы видите препятствия на пути?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2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Встаньте! Ответьте на эти вопросы и молитесь со своим партнером по служ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685800"/>
            <a:ext cx="8534520" cy="10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В-третьих, противостаньте дьявол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2133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Примите Божью защиту и благословение через моли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Молитесь, чтобы Божий мир и истина наполнили ваш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(Лук. 10:5, Иоан. 16: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Молитесь о Божьем избавлении от искушений (Мат. 6:13; Лук. 22: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ccffff"/>
                </a:solidFill>
                <a:latin typeface="Arial Cyr"/>
                <a:ea typeface="Arial Cyr"/>
              </a:rPr>
              <a:t>Противостаньте дьяв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Одевайтесь во всеоружие Божье каждый день (Ефесянам 6:14-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Шлем спас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Броня прав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Пояс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Обуйте ноги в готовность благовествова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Щит веры и меч 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ccffff"/>
                </a:solidFill>
                <a:latin typeface="Arial Cyr"/>
                <a:ea typeface="Arial Cyr"/>
              </a:rPr>
              <a:t>Противостаньте дьяв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Уничтожьте все, что есть нечестивого в вашей соб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Если в вашем доме есть вещи не принадлежащие вам, которые вы не имеете права уничтожить, то запечатайте их кровью Христа, чтобы никакие злые силы не могли быть высвобождены чере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Избегайте иску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Бог призывает нас быть мудрыми гораздо чаще, чем быть си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Иисус говорит нам молиться об избавлении от самих искушений. (Матфея 6:13, Лука 22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Предполагается, что мы поддаемся искушениям сравнительно лег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Избегайте иску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Каких ситуаций и каких взаимоотношений вам необходимо избег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Какие искушения вы можете предвидеть на данной стадии вашей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Какие шаги и действия вы можете предпринять, чтобы исключить или минимизировать искуш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Вы можете предвидеть и нейтрализовать стратегии сата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Жизнь в поб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Как постоянно жить в свободе и в победе в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Чтобы жить в победе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Кратко обобщим вышесказан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CP1251"/>
              <a:buChar char="1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Ненавидьте зло и лук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CP1251"/>
              <a:buChar char="2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Покоритесь Богу — пол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Делайте это ежедне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CP1251"/>
              <a:buChar char="3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Противостаньте дьяв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Примите Божью защи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Избегайте иску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Держитесь за Слово Бож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9144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Покоритесь Богу, противостаньте дьяволу и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362320" y="37339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 Cyr"/>
                <a:ea typeface="Arial Cyr"/>
              </a:rPr>
              <a:t>...он убежит от вас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80880"/>
            <a:ext cx="83059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Как ВЫ можете избежать искушен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981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От чего вам нужно избавиться и что нужно разрушить (уничтожить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Каких конкретных ситуаций и взаимоотношений вам необходимо избегать и какие шаги (действия) нужно предпринять, чтобы исключить или минимизировать искуш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10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2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Встаньте! Ответьте на эти вопросы и молитесь со своим партнером по слу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41911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Copyright © 1999 TOUCH Outreach Minis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yr"/>
                <a:ea typeface="Arial Cyr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Cyr"/>
                <a:ea typeface="Arial Cyr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yr"/>
                <a:ea typeface="Arial Cyr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Иисус сказ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133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Исцеленному парализованному: “</a:t>
            </a:r>
            <a:r>
              <a:rPr b="1" i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Вот, ты выздоровел; не греши больше, чтобы не случилось с тобою чего хуже”.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 (Иоанна 5: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Женщине, пойманной в прелюбодеянии: “</a:t>
            </a:r>
            <a:r>
              <a:rPr b="1" i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И я не осуждаю тебя; иди и впредь не греши”.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 (Иоанна 8: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Жизнь в поб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133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Освободиться лег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Оставаться свободным гораздо сложне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Но Слово Божье дает нам сильные принципы, чтобы помочь нам жить в свободе </a:t>
            </a:r>
            <a:r>
              <a:rPr b="1" lang="en-US" sz="4000" spc="-1" strike="noStrike">
                <a:solidFill>
                  <a:srgbClr val="ffffff"/>
                </a:solidFill>
                <a:latin typeface="Arial Cyr"/>
                <a:ea typeface="Arial Cyr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Бог говорит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98108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Прелюбодеи и прелюбодейцы! Не знаете ли, что дружба с миром есть вражда против Бога! Итак, кто хочет быть другом миру, тот становится врагом Богу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Итак, покоритесь Богу; противостаньте дьяволу, и убежит от вас. Приблизьтесь к Богу, и приблизится к ва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(Иакова 4:4,7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ccffff"/>
                </a:solidFill>
                <a:latin typeface="Arial Cyr"/>
                <a:ea typeface="Arial Cyr"/>
              </a:rPr>
              <a:t>Во-первых, поймите, что у вас есть враг, который вас ненавиди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Сатана хочет украсть вашу радость и разрушить вашу жизнь, ваши отношения и погубить тех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кого вы люб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Вор приходит только для того, чтобы украсть, убить и погубить. Я пришел для того, чтобы имели жизнь и имели с избытком”.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 (Иоанна 10: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Это ваш выбор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Иметь страх Божий, значит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Cyr"/>
                <a:ea typeface="Arial Cyr"/>
              </a:rPr>
              <a:t>ненавидеть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зло. (Притчи 8: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Cyr"/>
                <a:ea typeface="Arial Cyr"/>
              </a:rPr>
              <a:t>Возненавидьте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зло и возлюбите добро. (Амос 5: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Cyr"/>
                <a:ea typeface="Arial Cyr"/>
              </a:rPr>
              <a:t>Отвращайтесь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от зла, прилепляйтесь к добру. (Римлянам 12: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Выработайте ненависть к тому, что есть зло (жадность, похоть, непрощение, и т.д.), потому что сатана использует все это, чтобы погубить вас и тех, кого вы люб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Arial Cyr"/>
                <a:ea typeface="Arial Cyr"/>
              </a:rPr>
              <a:t>У вас есть две альтернати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Прелюбодеи и прелюбодейцы! Не знаете ли, что дружба с миром есть вражда против Бога? Итак, кто хочет быть другом миру, тот становится врагом Богу.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(Иакова 4: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80000"/>
              <a:buFont typeface="Wingding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Не любите мира, ни того что в мире: кто любит мир, в том нет любви Отчей.</a:t>
            </a:r>
            <a:r>
              <a:rPr b="0" lang="en-US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 (1 Иоанна 2: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ccffff"/>
                </a:solidFill>
                <a:latin typeface="Arial Cyr"/>
                <a:ea typeface="Arial Cyr"/>
              </a:rPr>
              <a:t>Сделайте выбор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2120" y="3733920"/>
            <a:ext cx="815328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Долго ли вам хромать на оба колена? если Господь есть Бог, то последуйте Ему; а если Ваал, то ему последуйте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-3 Царств 18: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Я и дом мой будем служить Господу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- Иисус Навин 24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Egli</dc:creator>
  <dc:description/>
  <dc:language>en-US</dc:language>
  <cp:lastModifiedBy>Jim Egli</cp:lastModifiedBy>
  <cp:revision>0</cp:revision>
  <dc:subject/>
  <dc:title>No Slide Title</dc:title>
</cp:coreProperties>
</file>